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7C2-5487-41E9-9E92-51A932B6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4F64-36E9-4044-9454-15B532AA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25E-54B6-4E5F-9631-C4AFF8C5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D18-40EF-4C1D-9F32-D9CC9ADE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C2E-638F-4021-A7B8-4F017C00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855-EECB-459F-913C-E1298AFA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20A-0C99-4108-B367-4E1FF3F3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3C22-3B32-4971-AB7A-B3D29EA3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4111-D48B-4C62-84EB-98CEE1EC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57D-3838-4345-BF84-D1F52568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593-C6F9-4C05-A2C7-879A69A2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BC3-1883-408E-9514-C48F1275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2011C4-02AA-4EF9-A151-7B81563087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94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Uncertainty and reasoning:</a:t>
            </a: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lectur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ve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A or B) = P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(A) + P(B) – P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and B are mutually exclu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A or B) = P(A) + P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ative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A and B) = P(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(A) * P(B|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(B) * P(A|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ndependent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B|A) = P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A|B) = P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 = P(A) * P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s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E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ability 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rue given evidenc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E | 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ability E is observed given 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ue regardless of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E) =  P(E | 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* P(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=    P(E | 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* P(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E | 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* P(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P(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4800600"/>
            <a:ext cx="289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48006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2960" y="2365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’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0680" y="1009440"/>
            <a:ext cx="82296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setting of diagnostic/evidential reas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9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9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9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9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9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9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9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9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9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20000"/>
              </a:lnSpc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 prior probability of hypothe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lnSpc>
                <a:spcPct val="12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probabi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20000"/>
              </a:lnSpc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nt to compute the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osterior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lnSpc>
                <a:spcPct val="12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yes’ theorem (formula 1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purpose is to find which of the n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12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more plausible given    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n we can ignore the denominator and  rank them us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lative likelih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895400" y="1527120"/>
                <a:ext cx="68151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  hypotheses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evidence/manifest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 flipH="1">
            <a:off x="2169720" y="1900080"/>
            <a:ext cx="127476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57520" y="1928880"/>
            <a:ext cx="1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86040" y="1928880"/>
            <a:ext cx="971640" cy="65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581280" y="4800600"/>
                <a:ext cx="4245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562720" y="5181480"/>
                <a:ext cx="111096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H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816280" y="5943600"/>
                <a:ext cx="3511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058080" y="3095640"/>
                <a:ext cx="799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095880" y="3498840"/>
                <a:ext cx="12448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968480" y="1927080"/>
                <a:ext cx="11444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5880" y="3865680"/>
                <a:ext cx="12448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790800" y="1590840"/>
                <a:ext cx="728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971800" y="5486400"/>
                <a:ext cx="378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 Probability it will 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H) = 0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ese on the lake, given rain tom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E|H) = 0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ese on lake, with no rain tom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E | ~H) = 0.0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E) = P(E | H) * P(H) + P(E | ~H) * P(~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0.02)*(0.8) + (0.025)*(0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0.016) + (0.005) = 0.0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n given geese on l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H | E) = (P( E | H) * P(H)) / P(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0.016 / 0.02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76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ain given geese on l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~H | E) = (P( E | ~H) * P(~H)) / P(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0.005 / 0.02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238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sian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763120" cy="288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81480" y="2971800"/>
            <a:ext cx="38124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19920" y="403704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sian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: Clanking S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: Low pic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: Starting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: Parts are hard to f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: Repair Estimate &gt; $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isan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ediate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1: Thrown connecting r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2: Wrist Pin Lo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3: Car Out of T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4: Replace or Rebuild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5: Tune Eng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 of the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inds of uncertain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Not related to agent/per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Non-discre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Probabilistic (several types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Fuzzy (possibilist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Discre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Multi-valued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Default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Other model-bas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Related to agent/per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Logic of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Other “meta”-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3046320" y="2970000"/>
            <a:ext cx="3355920" cy="30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2649600"/>
            <a:ext cx="16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on-dis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1400" y="396252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discrete stu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512800" y="3884760"/>
            <a:ext cx="2060280" cy="15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30760" y="5394240"/>
            <a:ext cx="23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nowledge log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884400" y="5256360"/>
            <a:ext cx="267012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isan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must be known in adv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P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P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S |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i = 1, 2,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d using Bayes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(S |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S) for i = 1, 2,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sian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4: Replace or Rebuild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H4) = P(H1 or H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max(P(H1 | S), P(H2 | 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5: Tune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H5) = not (H1 or H2) and H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in(1 – max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H1 | S), P(H2 | S)), P(H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air Estimate &gt; $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C1) = P(H4 or P(H5 and S4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max(P(H4 | S), min(P(H5 | S), 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V = 1 if S4 is true and 0 other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Datalo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28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7 term(d1,i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8 term(d1,d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5 link(d2,d1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out(D,T):- term(D,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out(D,T):- link(D,D1), about(D1,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1514520"/>
            <a:ext cx="28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1440" y="4495680"/>
            <a:ext cx="249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/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5105520"/>
            <a:ext cx="7696440" cy="825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- term(X,ir) &amp; term(X,d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= 0.56 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Datalo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28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7 term(d1,i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8 term(d1,d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5 link(d2,d1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out(D,T):- term(D,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out(D,T):- link(D,D1), about(D1,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0720" y="1514520"/>
            <a:ext cx="28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1440" y="4419720"/>
            <a:ext cx="249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/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4952880"/>
            <a:ext cx="7696080" cy="1557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(X):- term(X,i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(X):- term(X,d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-q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= 0.94 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Datalo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28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7 term(d1,i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8 term(d1,d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5 link(d2,d1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out(D,T):- term(D,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out(D,T):- link(D,D1), about(D1,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720" y="1514520"/>
            <a:ext cx="28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1440" y="4495680"/>
            <a:ext cx="249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/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5105520"/>
            <a:ext cx="7696440" cy="119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- about(X,d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= 0.8 d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= 0.4 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Datalo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28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7 term(d1,i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8 term(d1,d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5 link(d2,d1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out(D,T):- term(D,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out(D,T):- link(D,D1), about(D1,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00720" y="1514520"/>
            <a:ext cx="28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1440" y="4495680"/>
            <a:ext cx="249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/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5105520"/>
            <a:ext cx="7696440" cy="119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- about(X,db)&amp; about(X,i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= 0.56 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= 0.28 d2  # NOT 0.14 = 0.7*0.5*0.8*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Datalog: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Worlds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restrictions (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tatements are either independent or disj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clear how this is distinguished syntac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probabil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carry a lot of information along to support reasoning because of independence as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ness of Bayes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ult to get all apriori conditional and joint probabilitie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of priorities is hard to modify because of large number of inte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ts of calculation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comes must be dis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racy depends on complete hypo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0200" y="4935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imes New Roman"/>
              </a:rPr>
              <a:t>Related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0320" y="1337760"/>
            <a:ext cx="80010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ncyclopedi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itannica): reasoning that derives an explanatory hypothesis from a given set of f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ference result i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ypothesis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ich if true, coul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l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occurrence of the given f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dral, an expert system to construct 3D structure of chemical compou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 indent="-23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: mass spectrometer data of the compound and its chemical form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 indent="-23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B: chemistry, esp. strength of different types of b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 indent="-23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oning: form a hypothetical 3D structure which meet the given chemical formula, and would most likely produce the given mass spectrum if subjected to electron beam bombard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75920" y="1037880"/>
            <a:ext cx="80010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s: symptoms, lab test results, and other observed findings (called manifest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B: causal associations between diseases and manife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oning: one or more diseases whose presence would causally explain the occurrence of the given manife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other reasoning processes (e.g., word sense disambiguation in natural language process, image understanding, detective’s work, etc.) can also been seen as abductive reason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abilistic Reas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 world or domain is r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knowledge does not allow us to describe situation more precis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 domain is not random, rarely have access to enough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s too costly or too dange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is not random, just not described in sufficient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get more knowledge into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00200" y="164880"/>
            <a:ext cx="77724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ng abduction, deduction and in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0320" y="1123920"/>
            <a:ext cx="80010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duc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jor premise: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balls in the box are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or premise: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balls are from the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sion: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balls are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duc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ule: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balls in the box are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ation: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balls are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anation: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balls are from the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c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case: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balls are from the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ation: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balls are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pothesized rule: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ball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he box are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451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15080" y="1228680"/>
            <a:ext cx="928800" cy="119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=&gt; B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10400" y="2409840"/>
            <a:ext cx="1228680" cy="97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=&gt; B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sibl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01040" y="3465360"/>
            <a:ext cx="1228680" cy="162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enever A then B but not vice 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sib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=&gt;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1480" y="4800600"/>
            <a:ext cx="73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uction:  from specific cases to general ru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duction and deductio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h from part of a specific case to other part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ase using general rules (in different way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2960" y="2365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acteristics of abductive reaso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0680" y="1009440"/>
            <a:ext cx="8229600" cy="54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oning results a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othe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ot theorems (may be fal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en 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ules and facts are true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81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misdiagnosis in medi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0">
              <a:lnSpc>
                <a:spcPct val="90000"/>
              </a:lnSpc>
              <a:buNone/>
              <a:tabLst>
                <a:tab algn="l" pos="0"/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may be multiple plausible hypo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81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given rules A =&gt; B and C =&gt; B, and fac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0">
              <a:lnSpc>
                <a:spcPct val="90000"/>
              </a:lnSpc>
              <a:buNone/>
              <a:tabLst>
                <a:tab algn="l" pos="0"/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A and C are plausible hypothe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81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duction is inherently uncer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81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otheses can be ranked by their plausibility if that can be determin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0">
              <a:lnSpc>
                <a:spcPct val="90000"/>
              </a:lnSpc>
              <a:buNone/>
              <a:tabLst>
                <a:tab algn="l" pos="0"/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soning is often a Hypothesize- and-test cyc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81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othesize phase: postulate possible hypotheses, each of which could explain the given facts (or explain most of the important fac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81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phase: test the plausibility of all or some of these hypo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90680" y="652320"/>
            <a:ext cx="8229600" cy="58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buClr>
                <a:srgbClr val="000000"/>
              </a:buClr>
              <a:buFont typeface="Times New Roman"/>
              <a:buAutoNum type="arabicPeriod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soning is non-monoton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81240">
              <a:buClr>
                <a:srgbClr val="000000"/>
              </a:buClr>
              <a:buFont typeface="Times New Roman"/>
              <a:buChar char="–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usibility of hypotheses can increase/decrease as new facts are collected (deductive inference determines if a sentence is true but would never change its truth 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81240">
              <a:buClr>
                <a:srgbClr val="000000"/>
              </a:buClr>
              <a:buFont typeface="Times New Roman"/>
              <a:buChar char="–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hypotheses may be discarded, and new ones may be formed when new observations are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81240">
              <a:buClr>
                <a:srgbClr val="000000"/>
              </a:buClr>
              <a:buFont typeface="Times New Roman"/>
              <a:buChar char="–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way to test a hypothesis H is to query if some thing that is currently unknown but can be predicted from H is actually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43080">
              <a:buClr>
                <a:srgbClr val="000000"/>
              </a:buClr>
              <a:buFont typeface="Times New Roman"/>
              <a:buChar char="•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also know A =&gt; D and C =&gt; E, then ask if D and E are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43080">
              <a:buClr>
                <a:srgbClr val="000000"/>
              </a:buClr>
              <a:buFont typeface="Times New Roman"/>
              <a:buChar char="•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t turns out D is true and E is false, then hypothesis A becomes more plausible (support for A increased, support for C decreas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960" y="2365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essment of Assum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0680" y="1009440"/>
            <a:ext cx="8229600" cy="54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sumption 1: hypotheses are mutually exclusive and exhaust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gle fault assumption (one and only one hypothesis must tr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buClr>
                <a:srgbClr val="3333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ulti-faults do exist in individual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be viewed as an approximation of situations where hypotheses are independent of each other and their prior probabilities are very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sumption 2: pieces of evidence are conditionally independent of each other, given any hypo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ifestations themselves are not independent of each other, they are correlated by their common c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sonable under single fault 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buClr>
                <a:srgbClr val="3333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Not so when multi-faults are to be consid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93720" y="2590920"/>
                <a:ext cx="77565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0 if both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re very small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Fuzzynes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s a pile of chalk bi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have three pieces of chalk in the room is that considered a big pile of chal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eople might say, yes that is a big pile and some would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place between those three pieces of chalk and a whole room full of chalk the pile of chalk turns from a small pile into a big p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ould be a different spot for different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zziness Handles Uncertain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rottweiler-retriever mix a rottweil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we then breed with another retriever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s “tall”?  Who is “very tall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ic Spellman (5’9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hony Roberson (6’1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t Bonner (6’10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ing information:  Two sensors disagree about presence of land m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zzy Logic vs. Prob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s claim you should understand all uncertainty through prob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zzy theorists point out difference between vagueness and randomn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chance involved in the previous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instance, not intuitive to talk about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I’m 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(Crisp) Traditional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edicate (ak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dicator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akes a set. 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 is either in the set or not.  (It’s membership is 0/1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luded Midd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2743200"/>
            <a:ext cx="3352680" cy="2133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3657600"/>
            <a:ext cx="1523880" cy="99072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2895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67480" y="373392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856200" y="4114800"/>
            <a:ext cx="6886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6280" y="198108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ll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21360" y="5105520"/>
            <a:ext cx="213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in T 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ll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is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276720"/>
            <a:ext cx="30492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295280" y="5638680"/>
                <a:ext cx="30481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∩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T=</m:t>
                        </m:r>
                        <m:d>
                          <m:dPr>
                            <m:begChr m:val="{"/>
                            <m:endChr m:val="}"/>
                          </m:dPr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ll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tall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936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zzy sets and fuzzy log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1360" y="819000"/>
            <a:ext cx="870120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inary set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8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8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8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25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sets that are described by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gue linguistic ter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ets without hard, clearly defined boundaries), e.g., tall-person, fast-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jective (context depend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 to define a clear-cut 0/1 membership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782640" y="2468520"/>
                <a:ext cx="40752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dicate 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     if </m:t>
                            </m:r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0     otherwise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3000240" y="2895480"/>
            <a:ext cx="2000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97040" y="3403440"/>
                <a:ext cx="674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it is uncertain if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, use probability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995400" y="1143000"/>
                <a:ext cx="81486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     if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0     otherwise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called the characteristic or membership function of set 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1981080" y="1676520"/>
            <a:ext cx="2000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42960" y="4568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zzy set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8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ht(john) = 6’5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l(john) = 0.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ht(harry) = 5’8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l(harry) =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ht(joe) = 5’1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l(joe) = 0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 of membership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752480" y="914400"/>
                <a:ext cx="60627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lax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from binary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, 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to continuous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0, 1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ands for the degree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is thought to belong to set 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543040" y="1714680"/>
            <a:ext cx="2000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43480" y="2895480"/>
            <a:ext cx="20001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43040" y="3328560"/>
            <a:ext cx="6589800" cy="3301560"/>
            <a:chOff x="1643040" y="3328560"/>
            <a:chExt cx="6589800" cy="3301560"/>
          </a:xfrm>
        </p:grpSpPr>
        <p:sp>
          <p:nvSpPr>
            <p:cNvPr id="175" name=""/>
            <p:cNvSpPr/>
            <p:nvPr/>
          </p:nvSpPr>
          <p:spPr>
            <a:xfrm flipV="1">
              <a:off x="1871640" y="3328560"/>
              <a:ext cx="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643040" y="3404880"/>
              <a:ext cx="6570720" cy="1034280"/>
              <a:chOff x="1643040" y="3404880"/>
              <a:chExt cx="6570720" cy="1034280"/>
            </a:xfrm>
          </p:grpSpPr>
          <p:sp>
            <p:nvSpPr>
              <p:cNvPr id="177" name=""/>
              <p:cNvSpPr/>
              <p:nvPr/>
            </p:nvSpPr>
            <p:spPr>
              <a:xfrm>
                <a:off x="1871640" y="4116240"/>
                <a:ext cx="367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15160" y="3587760"/>
                <a:ext cx="229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t of tee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71640" y="3558960"/>
                <a:ext cx="3122640" cy="555840"/>
                <a:chOff x="1871640" y="3558960"/>
                <a:chExt cx="3122640" cy="555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871640" y="4114800"/>
                  <a:ext cx="109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2971800" y="3558960"/>
                  <a:ext cx="0" cy="55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971800" y="3560040"/>
                  <a:ext cx="936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3895560" y="3558960"/>
                  <a:ext cx="0" cy="55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895560" y="4114800"/>
                  <a:ext cx="109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1785960" y="4101840"/>
                <a:ext cx="404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                 12               1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643040" y="3404880"/>
                <a:ext cx="569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 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1881360" y="5197320"/>
              <a:ext cx="367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24520" y="4668840"/>
              <a:ext cx="229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of young peo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95320" y="5182920"/>
              <a:ext cx="404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                 12               1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2760" y="4485960"/>
              <a:ext cx="56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1881360" y="4400280"/>
              <a:ext cx="0" cy="78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90720" y="6306840"/>
              <a:ext cx="367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34240" y="5778360"/>
              <a:ext cx="2298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of mid-age peo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05040" y="6292800"/>
              <a:ext cx="404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         35       50        65        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62120" y="5595840"/>
              <a:ext cx="56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890720" y="5509800"/>
              <a:ext cx="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28880" y="4673520"/>
              <a:ext cx="2927160" cy="512640"/>
            </a:xfrm>
            <a:custGeom>
              <a:avLst/>
              <a:gdLst/>
              <a:ahLst/>
              <a:rect l="l" t="t" r="r" b="b"/>
              <a:pathLst>
                <a:path w="1845" h="324">
                  <a:moveTo>
                    <a:pt x="0" y="0"/>
                  </a:moveTo>
                  <a:cubicBezTo>
                    <a:pt x="192" y="12"/>
                    <a:pt x="384" y="25"/>
                    <a:pt x="603" y="72"/>
                  </a:cubicBezTo>
                  <a:cubicBezTo>
                    <a:pt x="822" y="119"/>
                    <a:pt x="1107" y="237"/>
                    <a:pt x="1314" y="279"/>
                  </a:cubicBezTo>
                  <a:cubicBezTo>
                    <a:pt x="1521" y="321"/>
                    <a:pt x="1751" y="315"/>
                    <a:pt x="1845" y="32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00160" y="5538600"/>
              <a:ext cx="2984760" cy="747720"/>
            </a:xfrm>
            <a:custGeom>
              <a:avLst/>
              <a:gdLst/>
              <a:ahLst/>
              <a:rect l="l" t="t" r="r" b="b"/>
              <a:pathLst>
                <a:path w="1881" h="472">
                  <a:moveTo>
                    <a:pt x="0" y="436"/>
                  </a:moveTo>
                  <a:cubicBezTo>
                    <a:pt x="221" y="425"/>
                    <a:pt x="443" y="415"/>
                    <a:pt x="576" y="355"/>
                  </a:cubicBezTo>
                  <a:cubicBezTo>
                    <a:pt x="709" y="295"/>
                    <a:pt x="737" y="130"/>
                    <a:pt x="801" y="76"/>
                  </a:cubicBezTo>
                  <a:cubicBezTo>
                    <a:pt x="865" y="22"/>
                    <a:pt x="902" y="0"/>
                    <a:pt x="963" y="31"/>
                  </a:cubicBezTo>
                  <a:cubicBezTo>
                    <a:pt x="1024" y="62"/>
                    <a:pt x="1116" y="205"/>
                    <a:pt x="1170" y="265"/>
                  </a:cubicBezTo>
                  <a:cubicBezTo>
                    <a:pt x="1224" y="325"/>
                    <a:pt x="1169" y="357"/>
                    <a:pt x="1287" y="391"/>
                  </a:cubicBezTo>
                  <a:cubicBezTo>
                    <a:pt x="1405" y="425"/>
                    <a:pt x="1782" y="459"/>
                    <a:pt x="1881" y="47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rtainty Factor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re certainties associated with rule inputs (e.g. antecedents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es the rule translate input certainty to output certainty (i.e. how deterministic is the rule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determine the certainty of facts supported by several ru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Fuzzy Sets (Logi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 is i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t to a deg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zzy set is an underlying crisp set and a membership function which assigns memberships in [0,1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member of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degre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bbreviated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(x) =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 can be both tall and not t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redefine many math concep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fuzzy differential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guistic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for representing qualitative measurements, like short, average, tall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fuzzy sets defined on a real interv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inguistic value becomes a fuzzy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ight as a Linguistic 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5715000"/>
            <a:ext cx="65534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54864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11480" y="59436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’4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54864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3080" y="59436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’8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54864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54864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4680" y="59436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’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57800" y="54864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29400" y="54864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6280" y="59436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’4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066680" y="2817720"/>
            <a:ext cx="1800" cy="2898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0040" y="5486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0040" y="297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72400" y="5486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2209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3200400"/>
            <a:ext cx="2133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3200400"/>
            <a:ext cx="2133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750680" y="3200400"/>
            <a:ext cx="213660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3200400"/>
            <a:ext cx="2133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046320" y="3200400"/>
            <a:ext cx="213696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0200" y="3200400"/>
            <a:ext cx="213660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1065240" y="3200400"/>
            <a:ext cx="14508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5720" y="3200400"/>
            <a:ext cx="8380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7080" y="26668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26668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76920" y="26668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9760" y="259092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y 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191120" y="3198600"/>
            <a:ext cx="1440" cy="2517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zzy Se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define union, intersection, comp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different choices.  Two common familie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581280" y="3276720"/>
          <a:ext cx="5334120" cy="153036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88880"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b-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990720" y="4800600"/>
                <a:ext cx="7837200" cy="18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,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∪</m:t>
                        </m:r>
                        <m:r>
                          <m:t xml:space="preserve">¬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,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∪</m:t>
                        </m:r>
                        <m:r>
                          <m:t xml:space="preserve">¬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6862320" y="4800600"/>
            <a:ext cx="228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“standard fuzz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763120" y="4038480"/>
            <a:ext cx="144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380080" y="4038480"/>
            <a:ext cx="3841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42960" y="51876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zzy logic: many-value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zzy predicates (degree of tru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ors/Opera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spcBef>
                <a:spcPts val="32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with probability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12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.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certainty of outcom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large # of repetitions or in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experiment (instance), the outcome is either true or false (without uncertainty or ambigu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0">
              <a:spcBef>
                <a:spcPts val="1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ure before it happens but sure after it happ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0">
              <a:spcBef>
                <a:spcPts val="1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zzy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gueness of conceptual/linguistic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ure even after it happ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0">
              <a:spcBef>
                <a:spcPts val="1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ther a child of tall mother and short father is ta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0">
              <a:spcBef>
                <a:spcPts val="1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ure before the child is bo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0">
              <a:spcBef>
                <a:spcPts val="1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ure after grown up (height = 5’6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105520" y="762120"/>
                <a:ext cx="278928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 if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530360" y="1593720"/>
                <a:ext cx="6094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negation: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junction: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disjunction: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zzy Im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ation can be defined several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start with the familiar definition in terms of union and comple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standard fuzzy ope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uild forward/backward chaining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617840" y="3505320"/>
                <a:ext cx="4674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600200" y="4572000"/>
                <a:ext cx="58960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42960" y="519120"/>
            <a:ext cx="8229600" cy="62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irical vs subjective (testable vs agree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zzy set connectors may lead to unreasonabl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two events A and B with P(A) &lt; P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=&gt; B (or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 ^ B) = P(A) = min{P(A), P(B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 v B) = P(B) = max{P(A), P(B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the case in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 ^ B) = P(A)P(B|A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(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 v B) = P(A) + P(B) – P(A ^ 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(B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0">
              <a:spcBef>
                <a:spcPts val="3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equality holds only if P(B|A) = 1, i.e., A =&gt; B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hing prob. theory cannot re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l(john) = 0.9, ~Tall(john) 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l(john) ^ ~Tall(john) = min{0.1, 0.9) 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’s degree of membership in the fuzzy set of “median-height people” (both Tall and not-Ta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prob. theory: P(joh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all ^ joh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l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valued lo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fi Zadeh (@ UC Berkeley) coins term in late 60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 in contro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371600" y="1981080"/>
            <a:ext cx="2570040" cy="3733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679040" y="5816520"/>
            <a:ext cx="198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tfi Zade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zzy logic offers us a way to deal with uncertain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s idea of truth and membership to values between zero and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s new operations for union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successfully in control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457200" y="228600"/>
            <a:ext cx="7999560" cy="6399360"/>
            <a:chOff x="457200" y="228600"/>
            <a:chExt cx="7999560" cy="6399360"/>
          </a:xfrm>
        </p:grpSpPr>
        <p:grpSp>
          <p:nvGrpSpPr>
            <p:cNvPr id="255" name=""/>
            <p:cNvGrpSpPr/>
            <p:nvPr/>
          </p:nvGrpSpPr>
          <p:grpSpPr>
            <a:xfrm>
              <a:off x="463680" y="233280"/>
              <a:ext cx="7985880" cy="6388200"/>
              <a:chOff x="463680" y="233280"/>
              <a:chExt cx="7985880" cy="638820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463680" y="233280"/>
                <a:ext cx="2660400" cy="1041480"/>
                <a:chOff x="463680" y="233280"/>
                <a:chExt cx="2660400" cy="10414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554040" y="233280"/>
                  <a:ext cx="2479680" cy="104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63680" y="233280"/>
                  <a:ext cx="2660400" cy="10414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3126240" y="233280"/>
                <a:ext cx="2660400" cy="1041480"/>
                <a:chOff x="3126240" y="233280"/>
                <a:chExt cx="2660400" cy="10414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216600" y="233280"/>
                  <a:ext cx="2479680" cy="104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t-EE" sz="2000" spc="-1" strike="noStrike">
                      <a:solidFill>
                        <a:srgbClr val="000000"/>
                      </a:solidFill>
                      <a:latin typeface="Times New Roman"/>
                    </a:rPr>
                    <a:t>Possibilistic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Logic Depend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v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126240" y="233280"/>
                  <a:ext cx="2660400" cy="10414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5788800" y="233280"/>
                <a:ext cx="2660760" cy="1041480"/>
                <a:chOff x="5788800" y="233280"/>
                <a:chExt cx="2660760" cy="10414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5879160" y="233280"/>
                  <a:ext cx="2479680" cy="104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robabilistic Logic Independ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v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788800" y="233280"/>
                  <a:ext cx="2660760" cy="10414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463680" y="1276200"/>
                <a:ext cx="2660400" cy="714600"/>
                <a:chOff x="463680" y="1276200"/>
                <a:chExt cx="2660400" cy="71460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54040" y="1276200"/>
                  <a:ext cx="2479680" cy="71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63680" y="1276200"/>
                  <a:ext cx="2660400" cy="714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3126240" y="1276200"/>
                <a:ext cx="2660400" cy="714600"/>
                <a:chOff x="3126240" y="1276200"/>
                <a:chExt cx="2660400" cy="7146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3216600" y="1276200"/>
                  <a:ext cx="2479680" cy="71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126240" y="1276200"/>
                  <a:ext cx="2660400" cy="714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5788800" y="1276200"/>
                <a:ext cx="2660760" cy="714600"/>
                <a:chOff x="5788800" y="1276200"/>
                <a:chExt cx="2660760" cy="7146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879160" y="1276200"/>
                  <a:ext cx="2479680" cy="71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788800" y="1276200"/>
                  <a:ext cx="2660760" cy="714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463680" y="1994040"/>
                <a:ext cx="2660400" cy="715680"/>
                <a:chOff x="463680" y="1994040"/>
                <a:chExt cx="2660400" cy="71568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554040" y="1994040"/>
                  <a:ext cx="2479680" cy="71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63680" y="1994040"/>
                  <a:ext cx="2660400" cy="7156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126240" y="1994040"/>
                <a:ext cx="2660400" cy="715680"/>
                <a:chOff x="3126240" y="1994040"/>
                <a:chExt cx="2660400" cy="7156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3216600" y="1994040"/>
                  <a:ext cx="2479680" cy="71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126240" y="1994040"/>
                  <a:ext cx="2660400" cy="7156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788800" y="1994040"/>
                <a:ext cx="2660760" cy="715680"/>
                <a:chOff x="5788800" y="1994040"/>
                <a:chExt cx="2660760" cy="7156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5879160" y="1994040"/>
                  <a:ext cx="2479680" cy="71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788800" y="1994040"/>
                  <a:ext cx="2660760" cy="7156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463680" y="2711520"/>
                <a:ext cx="2660400" cy="716040"/>
                <a:chOff x="463680" y="2711520"/>
                <a:chExt cx="2660400" cy="71604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4040" y="271152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ot 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63680" y="2711520"/>
                  <a:ext cx="266040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126240" y="2711520"/>
                <a:ext cx="2660400" cy="716040"/>
                <a:chOff x="3126240" y="2711520"/>
                <a:chExt cx="2660400" cy="71604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216600" y="271152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-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126240" y="2711520"/>
                  <a:ext cx="266040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5788800" y="2711520"/>
                <a:ext cx="2660760" cy="716040"/>
                <a:chOff x="5788800" y="2711520"/>
                <a:chExt cx="2660760" cy="71604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5879160" y="271152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 - 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788800" y="2711520"/>
                  <a:ext cx="266076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463680" y="3429000"/>
                <a:ext cx="2660400" cy="716040"/>
                <a:chOff x="463680" y="3429000"/>
                <a:chExt cx="2660400" cy="71604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4040" y="342900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 and 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63680" y="3429000"/>
                  <a:ext cx="266040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3126240" y="3429000"/>
                <a:ext cx="2660400" cy="716040"/>
                <a:chOff x="3126240" y="3429000"/>
                <a:chExt cx="2660400" cy="7160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216600" y="342900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in(a,b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126240" y="3429000"/>
                  <a:ext cx="266040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5788800" y="3429000"/>
                <a:ext cx="2660760" cy="716040"/>
                <a:chOff x="5788800" y="3429000"/>
                <a:chExt cx="2660760" cy="71604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5879160" y="342900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 * 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788800" y="3429000"/>
                  <a:ext cx="266076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63680" y="4145040"/>
                <a:ext cx="2660400" cy="716040"/>
                <a:chOff x="463680" y="4145040"/>
                <a:chExt cx="2660400" cy="7160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4040" y="414504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 or 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63680" y="4145040"/>
                  <a:ext cx="266040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3126240" y="4145040"/>
                <a:ext cx="2660400" cy="716040"/>
                <a:chOff x="3126240" y="4145040"/>
                <a:chExt cx="2660400" cy="71604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216600" y="414504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ax(a,b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126240" y="4145040"/>
                  <a:ext cx="266040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788800" y="4145040"/>
                <a:ext cx="2660760" cy="716040"/>
                <a:chOff x="5788800" y="4145040"/>
                <a:chExt cx="2660760" cy="7160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879160" y="414504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 + b – a*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788800" y="4145040"/>
                  <a:ext cx="266076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463680" y="4862520"/>
                <a:ext cx="2660400" cy="716040"/>
                <a:chOff x="463680" y="4862520"/>
                <a:chExt cx="2660400" cy="7160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54040" y="486252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ot A or (A and B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63680" y="4862520"/>
                  <a:ext cx="266040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3126240" y="4862520"/>
                <a:ext cx="2660400" cy="716040"/>
                <a:chOff x="3126240" y="4862520"/>
                <a:chExt cx="2660400" cy="71604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216600" y="486252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ax(1 - a, b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126240" y="4862520"/>
                  <a:ext cx="266040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5788800" y="4862520"/>
                <a:ext cx="2660760" cy="716040"/>
                <a:chOff x="5788800" y="4862520"/>
                <a:chExt cx="2660760" cy="71604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5879160" y="486252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1 - a) + a * 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788800" y="4862520"/>
                  <a:ext cx="266076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463680" y="5580000"/>
                <a:ext cx="2660400" cy="1041480"/>
                <a:chOff x="463680" y="5580000"/>
                <a:chExt cx="2660400" cy="104148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554040" y="5580000"/>
                  <a:ext cx="2479680" cy="104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 xor 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63680" y="5580000"/>
                  <a:ext cx="2660400" cy="10414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126240" y="5580000"/>
                <a:ext cx="2660400" cy="1041480"/>
                <a:chOff x="3126240" y="5580000"/>
                <a:chExt cx="2660400" cy="10414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216600" y="5580000"/>
                  <a:ext cx="2479680" cy="104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ax(min(a, 1 - b),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in(1 - a, b)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126240" y="5580000"/>
                  <a:ext cx="2660400" cy="10414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5788800" y="5580000"/>
                <a:ext cx="2660760" cy="1041480"/>
                <a:chOff x="5788800" y="5580000"/>
                <a:chExt cx="2660760" cy="10414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879160" y="5580000"/>
                  <a:ext cx="2479680" cy="104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+b-2ab+a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+ab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-a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788800" y="5580000"/>
                  <a:ext cx="2660760" cy="10414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8" name=""/>
            <p:cNvSpPr/>
            <p:nvPr/>
          </p:nvSpPr>
          <p:spPr>
            <a:xfrm>
              <a:off x="457200" y="228600"/>
              <a:ext cx="7999560" cy="6399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Hoc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of value on the interval [0,1] associated with each rule antecedent is a rule’s input certai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some attenuation or deterministic rule will be used as a multiplier to map input certainty to output certai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everal rules support the same fact the maximum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the rule output certainties will be the overall certainty of the 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ibilistic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X) = 0.5, P(Y) = 0.1, P(Z) =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Y or 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Y or Z) = max(P(Y), P(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ax(0.1, 0.2) =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X or Z)) = max(1 – P(X), P(Y or 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ax(1 – 0.5, 0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ax(0.5, 0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X) = 0.5, P(Y) = 0.1, P(Z) =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Y or 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X or Z) = P(Y) + P(Z) – P(Y) * P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1 + 0.2 – 0.1 * 0.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3 – 0.02 = 0.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Y or Z)) = not P(X) + P(X) * P(Y or Z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1 – 0.5) + 0.2 * 0.2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5 + 0.14 = 0.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Hoc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36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Hoc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A1 translates input to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.9) * (1.0) = 0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A2 translates input to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.25) * (1.0) =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 supported by A1 and A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0.25, 0.9) =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to Rule 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(0.9, 0.25) =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nslates input to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.25) * (0.8) = (0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960" y="465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imes New Roman"/>
              </a:rPr>
              <a:t>Non-naive 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babilistic In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6280" y="1209600"/>
            <a:ext cx="82296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ability theory (especially Bayes’ theor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established discipline about uncertain out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irical science like physics/chemistry, can be verified by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ty theory is too rigid to apply directly in many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assumptions have to be made to simplify the re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formalisms have been developed in which some aspects of the probability theory are changed/modif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riefly review the basics of probability theory before discussing different approaches to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Axi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E) = Number of desired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number of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| event | / |sample space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not E) = P(~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 – P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2590920"/>
            <a:ext cx="5181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05:47:13Z</dcterms:created>
  <dc:creator>Eric Spellman</dc:creator>
  <dc:description/>
  <dc:language>en-US</dc:language>
  <cp:lastModifiedBy>Tanel Tammet</cp:lastModifiedBy>
  <dcterms:modified xsi:type="dcterms:W3CDTF">2003-10-14T07:48:04Z</dcterms:modified>
  <cp:revision>91</cp:revision>
  <dc:subject/>
  <dc:title>PowerPoint Presentation</dc:title>
</cp:coreProperties>
</file>